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48488"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2874-63AE-40E9-B8CD-5138C889B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BAC21-DC22-4800-AF86-F01A9B12A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3FB3F-2A61-445A-9F50-4DD8951C5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32F0B-7DE6-4D9A-B16C-8DBD22418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651D6-3662-4376-9587-57DD37550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CB707-C75A-4440-9E60-22151C811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FB26D-71E8-4CDA-A7F9-7F1902A40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29DD1-11A5-4A3D-AD7F-B29D1E341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B6E0F-15B4-4A72-AAF0-D85E64907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FC39A-9CB6-46AA-88FB-77FDE08E0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47889-358F-4197-BBF6-4E8C0D9F5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D8790-53BA-4A57-B1AE-37EC38993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CE27C-3ECF-4841-BFFC-9C58941D5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42A36-E16F-4A63-B2C3-B0AF2BDB5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3476E-34D4-4A51-BA0E-E2E50ABE6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1B348-F7B8-4D2C-BFA5-B7E69E3D6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719D1-B239-4EB7-A776-CB0DB94B5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E8368-6A8E-4F93-9F40-9503F8DE6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FA31-C931-4F17-A258-3AB5FE9C4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C434-9BBF-4AB7-95F4-7F1EB1458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260C7-7ADE-498E-9863-191C5FDA9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763F-F343-477B-86EA-F33D3DF23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F228-47B0-4804-B698-98BC8E76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9272-7691-476F-8927-667185398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lick to edit the title text format</a:t>
            </a:r>
            <a:endParaRPr b="0" lang="en-US" sz="44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2320-8681-4166-B2CF-E2BB2339B338}" type="datetime">
              <a:rPr b="0" lang="en-US" sz="1400" spc="-1" strike="noStrike">
                <a:solidFill>
                  <a:srgbClr val="000000"/>
                </a:solidFill>
                <a:latin typeface="Times New Roman"/>
              </a:rPr>
              <a:t>07/29/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240" y="6241680"/>
            <a:ext cx="28954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ame] - PB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276720" y="6534000"/>
            <a:ext cx="2133360" cy="3240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0517-4E6F-4CFC-98E8-B86E62169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CADA-465F-424B-AC1A-10DD491A255D}"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Project Name] - PBR</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FC8E-E4C4-46FF-8AD3-394C2AC5BE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hs.gov/web/policies/checklistpdf.html"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457200" y="609480"/>
            <a:ext cx="8077320" cy="576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ject  Baseline Review  (PBR) Templ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sion 1.0 – July, 20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document is a template for the PB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tions should not be removed from the presentation.  If a section is not applicable, please indicate such and provide an explan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itional slides may be added to convey information that you feel is important to share but is not addressed by this templa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lease ensure that your presentation is Section 508-compliant by following the checklist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http://www.hhs.gov/web/policies/checklistpdf.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LETE THIS SLIDE BEFORE FINALIZI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OUR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151920"/>
            <a:ext cx="66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Work Breakdown Structure  (WBS)</a:t>
            </a:r>
            <a:endParaRPr b="0" lang="en-US" sz="4000" spc="-1" strike="noStrike">
              <a:solidFill>
                <a:srgbClr val="000000"/>
              </a:solidFill>
              <a:latin typeface="Arial Rounded MT Bold"/>
            </a:endParaRPr>
          </a:p>
        </p:txBody>
      </p:sp>
      <p:sp>
        <p:nvSpPr>
          <p:cNvPr id="11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1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C7F6-A015-4FED-97B3-DC71226A7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
          <p:cNvSpPr txBox="1"/>
          <p:nvPr/>
        </p:nvSpPr>
        <p:spPr>
          <a:xfrm>
            <a:off x="456840" y="2971800"/>
            <a:ext cx="8077320" cy="23623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work breakdown structure (WBS) to level 3 from Section 5.3 of the Project Management Plan. Also, along with this presentation, send WBS and schedule files for revie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1F01-8191-4169-9FCA-C518B97D3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tegrated Project Schedule</a:t>
            </a:r>
            <a:endParaRPr b="0" lang="en-US" sz="4000" spc="-1" strike="noStrike">
              <a:solidFill>
                <a:srgbClr val="000000"/>
              </a:solidFill>
              <a:latin typeface="Arial Rounded MT Bold"/>
            </a:endParaRPr>
          </a:p>
        </p:txBody>
      </p:sp>
      <p:sp>
        <p:nvSpPr>
          <p:cNvPr id="119"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0"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the proposed high-level schedule developed in accordance with Section 6.2 of the Project Management Plan. This may include a screen shot of the Gantt chart.]</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cess for identifying and managing risks from Section 8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13C5-18ED-4326-981B-7CD92CEC11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Management</a:t>
            </a:r>
            <a:endParaRPr b="0" lang="en-US" sz="4000" spc="-1" strike="noStrike">
              <a:solidFill>
                <a:srgbClr val="000000"/>
              </a:solidFill>
              <a:latin typeface="Arial Rounded MT Bold"/>
            </a:endParaRPr>
          </a:p>
        </p:txBody>
      </p:sp>
      <p:sp>
        <p:nvSpPr>
          <p:cNvPr id="12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CB72-4EF3-4569-A5DD-3D02025EE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isk Roster</a:t>
            </a:r>
            <a:endParaRPr b="0" lang="en-US" sz="4000" spc="-1" strike="noStrike">
              <a:solidFill>
                <a:srgbClr val="000000"/>
              </a:solidFill>
              <a:latin typeface="Arial Rounded MT Bold"/>
            </a:endParaRPr>
          </a:p>
        </p:txBody>
      </p:sp>
      <p:sp>
        <p:nvSpPr>
          <p:cNvPr id="12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28" name="Content Placeholder 2"/>
          <p:cNvSpPr/>
          <p:nvPr/>
        </p:nvSpPr>
        <p:spPr>
          <a:xfrm>
            <a:off x="457200" y="2971800"/>
            <a:ext cx="8077320" cy="1143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rovide a list of major risks to include risk description, impact rating, probability rating, and risk response strategy]</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DE83-9F36-4ED4-AA4B-A20D4CF03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Financial Considerations</a:t>
            </a:r>
            <a:endParaRPr b="0" lang="en-US" sz="4000" spc="-1" strike="noStrike">
              <a:solidFill>
                <a:srgbClr val="000000"/>
              </a:solidFill>
              <a:latin typeface="Arial Rounded MT Bold"/>
            </a:endParaRPr>
          </a:p>
        </p:txBody>
      </p:sp>
      <p:sp>
        <p:nvSpPr>
          <p:cNvPr id="131"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2" name="Content Placeholder 2"/>
          <p:cNvSpPr/>
          <p:nvPr/>
        </p:nvSpPr>
        <p:spPr>
          <a:xfrm>
            <a:off x="457200" y="2971800"/>
            <a:ext cx="8077320" cy="2286000"/>
          </a:xfrm>
          <a:prstGeom prst="rect">
            <a:avLst/>
          </a:prstGeom>
          <a:noFill/>
          <a:ln w="0">
            <a:noFill/>
          </a:ln>
        </p:spPr>
        <p:style>
          <a:lnRef idx="0"/>
          <a:fillRef idx="0"/>
          <a:effectRef idx="0"/>
          <a:fontRef idx="minor"/>
        </p:style>
        <p:txBody>
          <a:bodyPr lIns="90000" rIns="90000" tIns="46800" bIns="46800" anchor="t">
            <a:noAutofit/>
          </a:bodyPr>
          <a:p>
            <a:pPr marL="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funding sources for all project component costs for the preferred solution. This should include consideration of items such as capital costs, operating costs, total cost of ownership, impact on other projects, funding requirements, etc. from Section 8.1 of the Business Case.]</a:t>
            </a:r>
            <a:endParaRPr b="0" lang="en-US" sz="2000" spc="-1" strike="noStrike">
              <a:solidFill>
                <a:srgbClr val="000000"/>
              </a:solidFill>
              <a:latin typeface="Arial"/>
            </a:endParaRPr>
          </a:p>
          <a:p>
            <a:pPr marL="343080">
              <a:lnSpc>
                <a:spcPct val="10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mmunication Management</a:t>
            </a:r>
            <a:endParaRPr b="0" lang="en-US" sz="4000" spc="-1" strike="noStrike">
              <a:solidFill>
                <a:srgbClr val="000000"/>
              </a:solidFill>
              <a:latin typeface="Arial Rounded MT Bold"/>
            </a:endParaRPr>
          </a:p>
        </p:txBody>
      </p:sp>
      <p:sp>
        <p:nvSpPr>
          <p:cNvPr id="134"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5"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C78C-6A04-41C5-BF76-E5F856C5C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
          <p:cNvSpPr txBox="1"/>
          <p:nvPr/>
        </p:nvSpPr>
        <p:spPr>
          <a:xfrm>
            <a:off x="457200" y="2971800"/>
            <a:ext cx="8229600" cy="17524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protocol for conducting effective project communications to help manage project team and stakeholder expectations and prevent un-channeled communication. (From Section 7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hange Management</a:t>
            </a:r>
            <a:endParaRPr b="0" lang="en-US" sz="4000" spc="-1" strike="noStrike">
              <a:solidFill>
                <a:srgbClr val="000000"/>
              </a:solidFill>
              <a:latin typeface="Arial Rounded MT Bold"/>
            </a:endParaRPr>
          </a:p>
        </p:txBody>
      </p:sp>
      <p:sp>
        <p:nvSpPr>
          <p:cNvPr id="138"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39"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E318-56BA-4CF2-B71A-1B718E209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
          <p:cNvSpPr txBox="1"/>
          <p:nvPr/>
        </p:nvSpPr>
        <p:spPr>
          <a:xfrm>
            <a:off x="457200" y="2895480"/>
            <a:ext cx="8229600" cy="190512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fine the approach, administrative procedures, roles and responsibilities for submitting, evaluating, coordinating, approving or disapproving business and technical changes to baselined configuration items for the project. See Section 10 of the Project Management Plan.]  </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8CF8-CE1E-46DD-8060-7DD599BDD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2514600"/>
            <a:ext cx="8229600" cy="2743200"/>
          </a:xfrm>
          <a:prstGeom prst="rect">
            <a:avLst/>
          </a:prstGeom>
          <a:noFill/>
          <a:ln w="0">
            <a:noFill/>
          </a:ln>
        </p:spPr>
        <p:txBody>
          <a:bodyPr anchor="t">
            <a:normAutofit/>
          </a:bodyPr>
          <a:p>
            <a:pPr lvl="1" marL="465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t a high level the overall strategy for segmenting the delivery of the business product/code into specific releases from Section 5.2 of the Release Plan, if applicable.]</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3" name="PlaceHolder 2"/>
          <p:cNvSpPr>
            <a:spLocks noGrp="1"/>
          </p:cNvSpPr>
          <p:nvPr>
            <p:ph type="title"/>
          </p:nvPr>
        </p:nvSpPr>
        <p:spPr>
          <a:xfrm>
            <a:off x="3808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Release Strategy</a:t>
            </a:r>
            <a:endParaRPr b="0" lang="en-US" sz="4000" spc="-1" strike="noStrike">
              <a:solidFill>
                <a:srgbClr val="000000"/>
              </a:solidFill>
              <a:latin typeface="Arial Rounded MT Bold"/>
            </a:endParaRPr>
          </a:p>
        </p:txBody>
      </p:sp>
      <p:sp>
        <p:nvSpPr>
          <p:cNvPr id="144"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76520"/>
            <a:ext cx="777240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clusion of</a:t>
            </a:r>
            <a:br>
              <a:rPr sz="4400"/>
            </a:b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146"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Project Baseline Review</a:t>
            </a:r>
            <a:br>
              <a:rPr sz="2800"/>
            </a:br>
            <a:br>
              <a:rPr sz="2800"/>
            </a:br>
            <a:r>
              <a:rPr b="0" lang="en-US" sz="2800" spc="-1" strike="noStrike">
                <a:solidFill>
                  <a:srgbClr val="000000"/>
                </a:solidFill>
                <a:latin typeface="Arial Rounded MT Bold"/>
              </a:rPr>
              <a:t>for</a:t>
            </a:r>
            <a:endParaRPr b="0" lang="en-US" sz="2800" spc="-1" strike="noStrike">
              <a:solidFill>
                <a:srgbClr val="000000"/>
              </a:solidFill>
              <a:latin typeface="Arial Rounded MT Bold"/>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project name]</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2590920"/>
            <a:ext cx="8229600" cy="18288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dentify the individuals who will make the presentation, indicating their roles and/or organizations.</a:t>
            </a: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lease note that the Business Owner must be present.]</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esenters</a:t>
            </a:r>
            <a:endParaRPr b="0" lang="en-US" sz="4000" spc="-1" strike="noStrike">
              <a:solidFill>
                <a:srgbClr val="000000"/>
              </a:solidFill>
              <a:latin typeface="Arial Rounded MT Bold"/>
            </a:endParaRPr>
          </a:p>
        </p:txBody>
      </p:sp>
      <p:sp>
        <p:nvSpPr>
          <p:cNvPr id="87"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88"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57E8-BCB1-4714-8D1C-567ED4589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523520"/>
            <a:ext cx="8229600" cy="480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Business Need, Goals/Scope/Purpose, and Stakeholders from the project’s Project Startup Review (PSR) Presentation.  If PSR Presentation is not available, follow guidance provided in each section below.]</a:t>
            </a: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Business Need</a:t>
            </a:r>
            <a:endParaRPr b="0" lang="en-US" sz="2400" spc="-1" strike="noStrike">
              <a:solidFill>
                <a:srgbClr val="000000"/>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business need and drivers from Section 3.2 of the Business Process Model Description, if available, or from Sections 4.1 &amp; 4.3 of the Business Case or from PSR Presentation]</a:t>
            </a:r>
            <a:endParaRPr b="0" lang="en-US" sz="16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Goals/Scope/Purpose</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goals/scope from section 4.2 of the Business Case and the business and functional purpose from sections 3.1 &amp; 3.2 of the Requirements Document or from PSR Presentation]</a:t>
            </a:r>
            <a:endParaRPr b="0" lang="en-US" sz="1600" spc="-1" strike="noStrike">
              <a:solidFill>
                <a:srgbClr val="000000"/>
              </a:solidFill>
              <a:latin typeface="Verdana"/>
            </a:endParaRPr>
          </a:p>
          <a:p>
            <a:pPr lvl="1"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takeholders</a:t>
            </a:r>
            <a:endParaRPr b="0" lang="en-US" sz="2400" spc="-1" strike="noStrike">
              <a:solidFill>
                <a:srgbClr val="000000"/>
              </a:solidFill>
              <a:latin typeface="Verdana"/>
            </a:endParaRPr>
          </a:p>
          <a:p>
            <a:pPr lvl="1"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sert stakeholder information from </a:t>
            </a:r>
            <a:r>
              <a:rPr b="0" i="1" lang="en-US" sz="1600" spc="-1" strike="noStrike">
                <a:solidFill>
                  <a:srgbClr val="000000"/>
                </a:solidFill>
                <a:latin typeface="Verdana"/>
              </a:rPr>
              <a:t>Section 3.3 of the Business Process Model Description, if available, or from </a:t>
            </a:r>
            <a:r>
              <a:rPr b="0" lang="en-US" sz="1600" spc="-1" strike="noStrike">
                <a:solidFill>
                  <a:srgbClr val="000000"/>
                </a:solidFill>
                <a:latin typeface="Verdana"/>
              </a:rPr>
              <a:t>Section 4.4 of the Business Case or from PSR Presentation]</a:t>
            </a:r>
            <a:endParaRPr b="0" lang="en-US" sz="1600" spc="-1" strike="noStrike">
              <a:solidFill>
                <a:srgbClr val="000000"/>
              </a:solidFill>
              <a:latin typeface="Verdana"/>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Information</a:t>
            </a:r>
            <a:endParaRPr b="0" lang="en-US" sz="4000" spc="-1" strike="noStrike">
              <a:solidFill>
                <a:srgbClr val="000000"/>
              </a:solidFill>
              <a:latin typeface="Arial Rounded MT Bold"/>
            </a:endParaRPr>
          </a:p>
        </p:txBody>
      </p:sp>
      <p:sp>
        <p:nvSpPr>
          <p:cNvPr id="91"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F24E-C96F-4857-A064-174FA80579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6"/>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8374-6AD5-4F6F-9786-0C54ED01F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p:nvPr>
        </p:nvSpPr>
        <p:spPr>
          <a:xfrm>
            <a:off x="457200" y="1600200"/>
            <a:ext cx="8229600" cy="49528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nsert System Scope, High Level Functional Requirements, and Summary of Changes from the project’s PSR Presentation.  If PSR Presentation is not available, follow guidance provided in each section below.]</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ystem Scope</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ystem scope from Section 4.3.1 of the  High-Level Technical Design.]</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High Level Functional Requirement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high level functional requirements from Section 4.3.3 of the High Level Technical Design.]</a:t>
            </a:r>
            <a:endParaRPr b="0" lang="en-US" sz="16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Summary of Changes</a:t>
            </a:r>
            <a:endParaRPr b="0" lang="en-US" sz="24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insert condensed summary of changes of the current system from Section 4.3.4 of the High-Level Technical Design, if applicable.]</a:t>
            </a:r>
            <a:endParaRPr b="0" lang="en-US" sz="1600" spc="-1" strike="noStrike">
              <a:solidFill>
                <a:srgbClr val="000000"/>
              </a:solidFill>
              <a:latin typeface="Verdana"/>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posed System</a:t>
            </a:r>
            <a:endParaRPr b="0" lang="en-US" sz="4000" spc="-1" strike="noStrike">
              <a:solidFill>
                <a:srgbClr val="000000"/>
              </a:solidFill>
              <a:latin typeface="Arial Rounded MT Bold"/>
            </a:endParaRPr>
          </a:p>
        </p:txBody>
      </p:sp>
      <p:sp>
        <p:nvSpPr>
          <p:cNvPr id="96"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Insert the project scope statement from Section 5.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CF23-1B62-41A5-B03D-44A667669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Scope</a:t>
            </a:r>
            <a:endParaRPr b="0" lang="en-US" sz="4000" spc="-1" strike="noStrike">
              <a:solidFill>
                <a:srgbClr val="000000"/>
              </a:solidFill>
              <a:latin typeface="Arial Rounded MT Bold"/>
            </a:endParaRPr>
          </a:p>
        </p:txBody>
      </p:sp>
      <p:sp>
        <p:nvSpPr>
          <p:cNvPr id="100"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Assumptions</a:t>
            </a:r>
            <a:endParaRPr b="0" lang="en-US" sz="4400" spc="-1" strike="noStrike">
              <a:solidFill>
                <a:srgbClr val="000000"/>
              </a:solidFill>
              <a:latin typeface="Arial Rounded MT Bold"/>
            </a:endParaRPr>
          </a:p>
        </p:txBody>
      </p:sp>
      <p:sp>
        <p:nvSpPr>
          <p:cNvPr id="102"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3"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7F9A-5901-4BEA-A91D-2E8925960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assumptions or dependencies that may impact this project (from Section 4.1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Constraints</a:t>
            </a:r>
            <a:endParaRPr b="0" lang="en-US" sz="4400" spc="-1" strike="noStrike">
              <a:solidFill>
                <a:srgbClr val="000000"/>
              </a:solidFill>
              <a:latin typeface="Arial Rounded MT Bold"/>
            </a:endParaRPr>
          </a:p>
        </p:txBody>
      </p:sp>
      <p:sp>
        <p:nvSpPr>
          <p:cNvPr id="106" name="Footer Placeholder 3"/>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
        <p:nvSpPr>
          <p:cNvPr id="107" name="Slide Number Placeholder 4"/>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0D70-73C0-4975-B03A-E622E2293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any limitations or constraints that have a significant impact on this project (from Section 4.2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2971440"/>
            <a:ext cx="8229600" cy="114300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scribe the overall project management approach from Section 6 of the Project Management Plan.]</a:t>
            </a:r>
            <a:endParaRPr b="0" lang="en-US" sz="2000" spc="-1" strike="noStrike">
              <a:solidFill>
                <a:srgbClr val="000000"/>
              </a:solidFill>
              <a:latin typeface="Verdana"/>
            </a:endParaRPr>
          </a:p>
          <a:p>
            <a:pPr marL="34308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0" name="Slide Number Placeholder 3"/>
          <p:cNvSpPr/>
          <p:nvPr/>
        </p:nvSpPr>
        <p:spPr>
          <a:xfrm>
            <a:off x="3276720" y="6534000"/>
            <a:ext cx="21333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1B1B-70B8-41C8-ADA3-59149B78D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Project Management Approach</a:t>
            </a:r>
            <a:endParaRPr b="0" lang="en-US" sz="4000" spc="-1" strike="noStrike">
              <a:solidFill>
                <a:srgbClr val="000000"/>
              </a:solidFill>
              <a:latin typeface="Arial Rounded MT Bold"/>
            </a:endParaRPr>
          </a:p>
        </p:txBody>
      </p:sp>
      <p:sp>
        <p:nvSpPr>
          <p:cNvPr id="112" name="Footer Placeholder 4"/>
          <p:cNvSpPr/>
          <p:nvPr/>
        </p:nvSpPr>
        <p:spPr>
          <a:xfrm>
            <a:off x="5943600" y="6242040"/>
            <a:ext cx="28954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Name] - PB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20:23:57Z</dcterms:created>
  <dc:creator>Kristine Maenner</dc:creator>
  <dc:description>Version 1.1 - April, 2010</dc:description>
  <dc:language>en-US</dc:language>
  <cp:lastModifiedBy>Celia L. Shaunessy</cp:lastModifiedBy>
  <dcterms:modified xsi:type="dcterms:W3CDTF">2010-07-15T13:20:49Z</dcterms:modified>
  <cp:revision>82</cp:revision>
  <dc:subject/>
  <dc:title>Project Baseline Review (PBR) Template</dc:title>
</cp:coreProperties>
</file>